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F40E-A695-4840-819E-B3F1819EB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822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00640"/>
            <a:ext cx="822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C140-A267-46B6-800B-BD210140F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0064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0064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70C9-7B02-4491-AD61-585E24C2C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51316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51316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0064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0064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0064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1814-900C-471E-AE0C-4E9229633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2C2C-DC6B-4B67-B15A-FB395AE2C6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51316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AFA3-576A-45E2-B43D-3DD0B82906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7835-2EA9-4424-BEBE-E9A1379DE4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40158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513160"/>
            <a:ext cx="40158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3E10-8858-4E85-885F-2CA35FD755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E5E5-4C83-4F8C-A5EE-B9CB024595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845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CA25-9697-48ED-BA61-B15B1BA777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513160"/>
            <a:ext cx="40158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0064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8EBC-6113-433A-9F3E-911C64D67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51316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C140-F72C-4F34-9AD4-534345633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40158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0064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866D-7604-4C79-B3E3-22E8E45E2D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00640"/>
            <a:ext cx="822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14C5-4E01-45C2-8718-9EBFA38CA1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822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00640"/>
            <a:ext cx="822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ED49-5143-4E07-B210-7331E153F5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0064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0064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8818-0C46-445D-B991-C238746271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51316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51316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0064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0064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00640"/>
            <a:ext cx="264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C05C-95F1-4FF1-A518-6744EE2AE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699D-020F-413F-97F7-11924DF3A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40158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513160"/>
            <a:ext cx="40158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BAC4-8AEB-4C2D-8CFD-DD0351E4F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285A-3C1A-41C2-9A91-42E72369C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845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7B70-505E-4F75-BFAC-F799FC2D8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513160"/>
            <a:ext cx="40158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0064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DE6C-F8D3-4C56-8F73-8CBE25CDD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40158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0064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4611-05F1-49B3-B41B-6F92CD142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13160"/>
            <a:ext cx="40158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00640"/>
            <a:ext cx="8229600" cy="172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999C-2F7F-492D-A00F-1775B23F4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Click to edit the title text format</a:t>
            </a: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ooper Black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ooper Black"/>
            </a:endParaRPr>
          </a:p>
          <a:p>
            <a:pPr lvl="1" marL="171720" algn="ctr">
              <a:spcBef>
                <a:spcPts val="799"/>
              </a:spcBef>
              <a:buClr>
                <a:srgbClr val="878787"/>
              </a:buClr>
              <a:buFont typeface="Cooper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ooper Black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ooper Black"/>
            </a:endParaRPr>
          </a:p>
          <a:p>
            <a:pPr lvl="2" marL="358920" algn="ctr">
              <a:spcBef>
                <a:spcPts val="799"/>
              </a:spcBef>
              <a:buClr>
                <a:srgbClr val="878787"/>
              </a:buClr>
              <a:buFont typeface="Cooper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ooper Black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ooper Black"/>
            </a:endParaRPr>
          </a:p>
          <a:p>
            <a:pPr lvl="3" marL="546480" algn="ctr">
              <a:spcBef>
                <a:spcPts val="799"/>
              </a:spcBef>
              <a:buClr>
                <a:srgbClr val="878787"/>
              </a:buClr>
              <a:buFont typeface="Cooper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ooper Black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ooper Black"/>
            </a:endParaRPr>
          </a:p>
          <a:p>
            <a:pPr lvl="4" marL="734040" algn="ctr">
              <a:spcBef>
                <a:spcPts val="799"/>
              </a:spcBef>
              <a:buClr>
                <a:srgbClr val="878787"/>
              </a:buClr>
              <a:buFont typeface="Cooper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ooper Black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ooper Black"/>
            </a:endParaRPr>
          </a:p>
          <a:p>
            <a:pPr lvl="5" marL="734040" algn="ctr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ooper Black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ooper Black"/>
            </a:endParaRPr>
          </a:p>
          <a:p>
            <a:pPr lvl="6" marL="734040" algn="ctr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ooper Black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ooper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03C1-6518-4620-912D-AB99BAFCFBA6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Click to edit the title text format</a:t>
            </a: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51316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Click to edit the outline text format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  <a:p>
            <a:pPr lvl="1" marL="613080" indent="-248400">
              <a:spcBef>
                <a:spcPts val="799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Second Outline Level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  <a:p>
            <a:pPr lvl="2" marL="961200" indent="-1987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Third Outline Level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  <a:p>
            <a:pPr lvl="3" marL="1358640" indent="-198720">
              <a:spcBef>
                <a:spcPts val="799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Fourth Outline Level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  <a:p>
            <a:pPr lvl="4" marL="1756440" indent="-198720">
              <a:spcBef>
                <a:spcPts val="799"/>
              </a:spcBef>
              <a:buClr>
                <a:srgbClr val="ff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Fifth Outline Level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  <a:p>
            <a:pPr lvl="5" marL="175644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Sixth Outline Level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  <a:p>
            <a:pPr lvl="6" marL="175644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Seventh Outline Level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AA4A-58E9-40ED-A9D7-F776B8656E54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1708200"/>
            <a:ext cx="8115120" cy="189216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Cooper Black"/>
              </a:rPr>
              <a:t>Tamil Tigers offer to </a:t>
            </a:r>
            <a:br>
              <a:rPr sz="3800"/>
            </a:br>
            <a:r>
              <a:rPr b="0" lang="en-US" sz="3800" spc="-1" strike="noStrike">
                <a:solidFill>
                  <a:srgbClr val="ff00ff"/>
                </a:solidFill>
                <a:latin typeface="Cooper Black"/>
              </a:rPr>
              <a:t>‘silence our guns’ in Sri Lanka</a:t>
            </a:r>
            <a:endParaRPr b="0" lang="en-US" sz="3800" spc="-1" strike="noStrike">
              <a:solidFill>
                <a:srgbClr val="ff00ff"/>
              </a:solidFill>
              <a:latin typeface="Cooper Blac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013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SUZIE KIM</a:t>
            </a:r>
            <a:endParaRPr b="0" lang="en-US" sz="3200" spc="-1" strike="noStrike">
              <a:solidFill>
                <a:srgbClr val="878787"/>
              </a:solidFill>
              <a:latin typeface="Cooper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When?</a:t>
            </a: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May 17th 2009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Where?</a:t>
            </a: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Sri Lanka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Who?</a:t>
            </a: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Tamil Tiger rebels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  <a:p>
            <a:pPr lvl="2" marL="1104840" indent="-22860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oper Black"/>
              </a:rPr>
              <a:t>formally known as the Liberation Tigers of Tamil Eelam</a:t>
            </a:r>
            <a:endParaRPr b="0" lang="en-US" sz="2800" spc="-1" strike="noStrike">
              <a:solidFill>
                <a:srgbClr val="ff00ff"/>
              </a:solidFill>
              <a:latin typeface="Cooper Black"/>
            </a:endParaRPr>
          </a:p>
          <a:p>
            <a:pPr lvl="2" marL="1104840" indent="-22860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Cooper Black"/>
              </a:rPr>
              <a:t>who have fought for an independent state for minority Tamils in Sri Lanka since July 1983</a:t>
            </a:r>
            <a:endParaRPr b="0" lang="en-US" sz="2800" spc="-1" strike="noStrike">
              <a:solidFill>
                <a:srgbClr val="ff00ff"/>
              </a:solidFill>
              <a:latin typeface="Cooper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What?</a:t>
            </a: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oper Black"/>
              </a:rPr>
              <a:t>The Tamil Tiger rebels in Sri Lanka have “decided to silence our guns” as government forces closed in on their last stronghold</a:t>
            </a:r>
            <a:endParaRPr b="0" lang="en-US" sz="2800" spc="-1" strike="noStrike">
              <a:solidFill>
                <a:srgbClr val="ff00ff"/>
              </a:solidFill>
              <a:latin typeface="Cooper Black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oper Black"/>
              </a:rPr>
              <a:t>Tamil Tigers decide to end their civil war since they’ve received too much damage themselves - 25,000 civilians dead or dying</a:t>
            </a:r>
            <a:endParaRPr b="0" lang="en-US" sz="2800" spc="-1" strike="noStrike">
              <a:solidFill>
                <a:srgbClr val="ff00ff"/>
              </a:solidFill>
              <a:latin typeface="Cooper Black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oper Black"/>
              </a:rPr>
              <a:t>Sri Lanka has been totally freed from the barbaric acts of terrorism of the LTTE</a:t>
            </a:r>
            <a:endParaRPr b="0" lang="en-US" sz="2800" spc="-1" strike="noStrike">
              <a:solidFill>
                <a:srgbClr val="ff00ff"/>
              </a:solidFill>
              <a:latin typeface="Cooper Black"/>
            </a:endParaRPr>
          </a:p>
          <a:p>
            <a:pPr marL="30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Cooper Black"/>
            </a:endParaRPr>
          </a:p>
          <a:p>
            <a:pPr marL="30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Cooper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What?</a:t>
            </a: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857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oper Black"/>
              </a:rPr>
              <a:t>"This battle has reached its bitter end," Selvarasa Pathmanathan, a spokesman for the rebels said in an "urgent statement" posted Sunday on Tamilnet.com, a pro-rebel Web site.</a:t>
            </a:r>
            <a:endParaRPr b="0" lang="en-US" sz="2400" spc="-1" strike="noStrike">
              <a:solidFill>
                <a:srgbClr val="ff00ff"/>
              </a:solidFill>
              <a:latin typeface="Cooper Black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oper Black"/>
              </a:rPr>
              <a:t>"It is our people who are dying now from bombs, shells, illness and hunger. We cannot permit any more harm to befall them. We remain with one last choice -- to remove the last weak excuse of the enemy for killing our people. We have decided to silence our guns," he said.</a:t>
            </a:r>
            <a:endParaRPr b="0" lang="en-US" sz="2400" spc="-1" strike="noStrike">
              <a:solidFill>
                <a:srgbClr val="ff00ff"/>
              </a:solidFill>
              <a:latin typeface="Cooper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Why?</a:t>
            </a: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Glad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  <a:p>
            <a:pPr marL="30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  <a:ea typeface="ヒラギノ明朝 ProN W6"/>
              </a:rPr>
              <a:t>	</a:t>
            </a: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that the rebels had finally decided to end their violent attacks to the civilians of Sri Lanka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How?</a:t>
            </a:r>
            <a:endParaRPr b="0" lang="en-US" sz="40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513160"/>
            <a:ext cx="8229600" cy="361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Surrender of Germany at World War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oper Black"/>
              </a:rPr>
              <a:t>End of South Korea’s candle light relays against importing of US beefs</a:t>
            </a:r>
            <a:endParaRPr b="0" lang="en-US" sz="3200" spc="-1" strike="noStrike">
              <a:solidFill>
                <a:srgbClr val="ff00ff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426F-796E-45BE-A68E-4A6EED2E1A8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ngMyung Lee</dc:creator>
  <dc:description/>
  <dc:language>en-US</dc:language>
  <cp:lastModifiedBy/>
  <cp:revision>0</cp:revision>
  <dc:subject/>
  <dc:title>Slide 1</dc:title>
</cp:coreProperties>
</file>